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B40-D2D0-422A-8B32-8094B60AA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92D7-3DE6-4E54-90B7-AB9E4BDB9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E22B4-9DE9-4B01-8E4D-78497F7CA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175D-2C00-4BAB-BF6A-BB41CAAA9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771D-D4AA-4E77-8515-BA44D5329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4C9F-C667-4B7A-9573-C10F25BE7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BDBB2-8EE7-4884-BB86-F58B8514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8FA89-5735-475B-B756-9838BD663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ADCBF-EB85-483A-AADA-9DABED93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05B69-6541-4C8E-A0BC-D6434AA9C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6395B-D07E-46DB-978F-7BF05EF4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9AA-B181-4B77-915F-49C32F5EA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A239E-1647-482D-B5D9-3336FDE9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F90B5-572B-4AD6-8DF4-46FB39764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E40D-2D84-4D4E-80F5-44D0A82F0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F433-AFE0-47F9-82B3-D085D39A7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079E-8131-421A-92FC-2E3FE71EE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C1639E-24DE-4F71-ABE7-89923ECAF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71F48-885F-4B66-890A-6BB0F2784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7537D4-2A78-4F9B-82AC-42219904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0D1982-2D26-4E49-AF35-03460DE88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01B893-C1CB-4D34-A054-A879E713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1C10-D71D-40C9-A2D7-FCEDB5C1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2FE80A-64FD-41D9-9863-31C5323AE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4AB74-8A25-4AAA-BAF3-8A9A493ED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915E9-F16E-47EA-A196-D4DC5B29A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943C6-C3DC-4A84-BEF9-80AB2FBF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C0AF4-4CB7-4772-9A93-824695F3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6B5FC1-FA10-4E75-8103-82901C562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E5D55-DA8F-412D-8591-3BC615082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E6E4D-DB5B-43CF-BC5B-43EE5A082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A6E83-1285-4CDA-8D72-B894A8E3B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0A33F-0446-4842-A6C1-BD67A0F3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323D6-8729-40CF-87C1-75A9AFEED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B2D69-9714-4BBA-8DCB-52BB4B98A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7A9ED9-BA72-4397-9650-B2E2E6753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65AB81-52BE-4A6F-A428-5366D9B9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06F153-6284-4580-B86F-4F2332E0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A969-7A66-4121-87B8-183BB211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804C7-8C6B-484C-AB5C-855DD6E9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713348-1BE6-441A-9D0B-D7061566C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ABF531-9E1D-46CA-80AE-86F264404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E50CA-415F-4054-9073-C11426E6A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5F084-7C34-4123-BF12-824AD1BE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ACD0-F6EC-4BA4-8049-E964C227D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1E6A-753F-4BDA-B264-BD58FBEA7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250-7785-4AED-A2CF-444E4DC7D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E2B43-FE58-49B2-9A5D-7DF544CF0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4B0B7-699E-4469-9816-44F47A1DB08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55B5-2618-43AB-96CB-E7A072AE5B2C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A5F6-88DA-4793-9792-4BE686E736B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7CDE-F372-402F-B791-4AB7C520F9E3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6400" y="1371600"/>
            <a:ext cx="8302680" cy="23223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Game- groups of 3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Whiteboard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Everybody writes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Assign 2 numbers to everybody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nstantia"/>
              </a:rPr>
              <a:t>Teacher rolls dice-to pick reader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 need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necesit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He liste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Él escuch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end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termin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played pian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toc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s/form pass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. pas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pl/form prepar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Uds. prepar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bath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me bañ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s/fam got up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 te levantas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bega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empec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took phot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sac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¿Cuáles son los términos para los verbos de ‘ar en el pretérito?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é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t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ste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ó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on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shav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se afeit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pai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pag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 waited f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esper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he helped m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a me ayud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p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helped u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nos ayud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explai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expliq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Ana y tú clean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osotros/as limpiaste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and I won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gan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17b"/>
                </a:solidFill>
                <a:latin typeface="Calibri"/>
              </a:rPr>
              <a:t>¿Cuáles son los tres tipos de verbos que tienen conjugaciones irregulares en la forma de ‘yo’ en el pretérito?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ar= q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gar= g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zar= c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She practic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a practicó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searched/looked for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busc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I played a spor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Yo jugué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ey danc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llos bailar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We swam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sotros nadam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You fam/sing helped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ú ayudas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7T20:31:45Z</dcterms:created>
  <dc:creator>Coffman, Kristie</dc:creator>
  <dc:description/>
  <dc:language>en-US</dc:language>
  <cp:lastModifiedBy>Prine, Stephanie</cp:lastModifiedBy>
  <dcterms:modified xsi:type="dcterms:W3CDTF">2012-11-29T14:31:52Z</dcterms:modified>
  <cp:revision>6</cp:revision>
  <dc:subject/>
  <dc:title>5-3 2nd ‘ar pret. practice</dc:title>
</cp:coreProperties>
</file>